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153-F568-4E1D-B8D8-BDA738B2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A6C-F915-489E-834E-EAC1DEB0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36DE2-47BE-44F3-AC5F-44E63D0F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68901-89CA-4352-8BB0-06E06F89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F2B80-ABEB-4DDB-8741-69E30718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67D30-2536-431E-9A90-39AADC8E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A3C33-0669-40B8-8B85-AEF7FC5B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570F0-71CD-4908-8200-D913F14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1B6EE-BF7B-4427-9256-5C81F872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A4959-571F-4C3F-B169-D91152D2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6BD3A-9BF7-4681-B023-2A369CC8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AFE-FDA3-48F1-AD40-A39BADE2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06A-C354-4169-9F85-676028C2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64EB-45E8-415B-A9F4-F76598A8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56E9-727B-4598-AD0E-1BDE5EC6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97C8-001C-4C50-930D-859F52A5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9B1F-5C48-436D-B756-49D3BA6B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F9EB-FD62-4F3E-97BF-B3CB0F9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B2FF-F510-42DD-9984-CFD9B52F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97D3-660B-49E9-968E-7E3DF0E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DB3-D1DE-4B98-B5E4-385E15DF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E99-6D81-41B5-98C7-BDE93157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E5C2-8F36-42B3-A52E-C1DA4BB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FF92-B0C7-4542-A52A-35688B84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E165-32B8-46C9-AC59-74261B11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497A-86E5-4DBB-9D88-E694E019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DB93-11D6-426D-905E-CAA7AD29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DF62-C57A-42C5-A90B-2348342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0238-376B-4C92-931A-25D86B14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8ADC-1FE4-457C-B317-1151637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60B6D-68AC-464F-B059-FC63A1D9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9A1-978A-415A-B43B-FA567745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0055A-92E0-4A00-968A-7D76BA2C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06F7-0D19-40D6-BBED-0A5FA3C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2599-C386-49DB-A033-844D3CBB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260B-CAED-4E49-B135-CA992E0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0DCB-83B1-41B1-A52E-2BF89722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1001-0A41-4CEC-9866-99C4E14E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B3598-BCF6-4B82-8902-FC478B60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4DF7-9AA2-42E7-B8A8-B70F71C3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8F83E-6572-4BA0-8A33-A13C6E72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087C-AF53-4E17-959C-456D474D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C74-B112-4420-9811-638E1B3B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AABDA-010A-457B-8C7E-00DDC105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FCCE-229C-4E4C-AA9F-62FF2690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C30E-C572-489F-8500-0E82FC1E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B312-715F-4736-80A1-51AA08BD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E533-FB8C-44AF-B805-4E094974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76B6-BBC7-45C3-BA59-2877485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09DA-0DB6-4ED9-A606-37DEC7BC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A2A2-1BD3-4893-8611-5ACF1EDD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214F-7881-4DE2-9362-FA91E8FB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CAD04-4A53-4D40-A64C-C75BAE0B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540-59D2-439D-B9B6-0D96A332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25226-16BD-4DE9-978F-9609DCBB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9A48-2860-40C2-BE41-751B137E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52CE1-1689-4A34-AAF9-0B99218D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D762-A093-416D-A149-FD50D6F6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5F51B-8EEF-47A4-B242-8C7064A0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CCFA6-A250-431D-AC74-BECC56CA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83BE4-3FD9-44BF-9CFE-53F15B97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DDA2-4233-44A4-B8DD-D439DE6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CDFF7-C260-4B87-B7DA-DE368341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C0DA2-DCF0-4740-ABBF-83B8B422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D33-20AC-4129-8248-0CC6FD78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D8C5-0731-4907-A4C8-84804D4A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D4EF0-7752-479E-98B2-C289599E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726C5-BF6C-49C0-9C72-24A2B9D7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38DE3-482D-44AD-B654-C545C3B6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9579-53BC-4E7E-ACC0-99B6EB56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11C8-99A9-43F7-9DD6-8A454CDD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75695-D22F-4B0C-94F0-1486ED7B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37DE4-E9F1-47E6-8002-DDA82D9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7FA55-4402-43BE-B46E-30A273F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DD40D-1048-43DA-8D3B-99EE84E7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A8B-A737-480E-A753-DA32168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FC0D-3305-45B4-9ABE-778B6D97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96C88-146A-446B-ABE4-A2397961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C38F5-9FCF-4923-A31B-F4CF6F04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2EF06-9823-44E3-8FF9-CDFF77CE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0510-1271-44C3-96D7-E13568CC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5F2AA-3400-4B08-BED4-D56C57E2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FFA28-8FB6-40CF-9364-075436FE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AEA3-A94B-41A2-9E1E-B220FB47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15D41-BEB1-4595-A127-D0E4BAEA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9D1E-CC57-408A-88AC-E7367E23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882-8A39-42E8-A664-74A57850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2107-2A28-4B63-864F-2DC715C7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5B8A2-5D66-489C-BDFC-27D7798C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AA649-8124-45D7-8DBF-19BD96DE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E6BA0-6241-493B-9DC9-0808CD97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5F2E1-66B5-461F-B92A-8140B248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FE3F3-D1AF-4C9F-9BD9-80AB523B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3DEFD-F9A8-41F0-8390-D3010081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7BAAA-81E6-4633-A0BE-C10379F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D858D-E205-4963-B66C-B083F0E8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8460A-95D4-4F4B-8449-9E2D1C17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E8D-A8D3-4E42-ACCE-678AEE5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BAABF-5505-40A7-8419-38CC62F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3C1A9-781A-4140-B6C4-F681E7FC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79EC-06F6-4720-A6BA-2B52135F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68AC3-D183-403C-BCC6-E9C81104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8BC0E-CF1D-4AAA-B6F6-60C1957D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ED57D-542F-4865-805C-E3327ED8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C60FA-AC8E-4B4B-9FE1-7D53FA63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11C0A-44DC-4A15-95C0-6A1BCED2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4F154-39F7-441A-A1C6-EA555479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AC117-AD21-4FE2-8226-7AE52C5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D0D5-55CA-4A89-B27E-EE94306AACC1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2358-A8D9-49E0-9F03-53F13C7C0E9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6F1B-4193-4950-A7FC-0ABA73E791D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882E-1EAB-4B8C-A864-44AE7B137FFF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AF65-9D52-4C4B-8279-10787AC78ABF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2C7-9157-4C64-9062-98AE44BF03C5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7990-6ED5-42F3-9C18-A3AE865CCED5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A9D3-BD20-401E-9151-42999F9EF45E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5021-1EFC-45DF-836C-BDDC6D6BF56B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&amp;q=949083643&amp;p=11&amp;ag=ih&amp;rpt=simage&amp;qs=stype=image&amp;nl=0&amp;text=%CD%C1%D4%C5%CD%C1%D4%C9%CB%C1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000480" y="5785920"/>
            <a:ext cx="278604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lvl="1" marL="45720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Савцова У.Б.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45720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142 группа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45720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КГПИ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00" name="Прямоугольник 3" descr=""/>
          <p:cNvPicPr/>
          <p:nvPr/>
        </p:nvPicPr>
        <p:blipFill>
          <a:blip r:embed="rId1"/>
          <a:stretch/>
        </p:blipFill>
        <p:spPr>
          <a:xfrm>
            <a:off x="1170000" y="981000"/>
            <a:ext cx="70959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56760" y="1214280"/>
            <a:ext cx="848196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В природе можно видеть и графики тригонометрических функций, квадратных и кубических уравнений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3" name="Picture 2" descr="D:\документы\КГПИ\ИКТО\Портфолио\images_sounds (медиаматериалы)\s3img_10063650_3755_1.jpg"/>
          <p:cNvPicPr/>
          <p:nvPr/>
        </p:nvPicPr>
        <p:blipFill>
          <a:blip r:embed="rId2"/>
          <a:stretch/>
        </p:blipFill>
        <p:spPr>
          <a:xfrm>
            <a:off x="3286080" y="3000240"/>
            <a:ext cx="5624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2142720"/>
            <a:ext cx="818676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13f9a"/>
                </a:solidFill>
                <a:latin typeface="Franklin Gothic Book"/>
              </a:rPr>
              <a:t>В чем единство математики, искусства и красоты природы?</a:t>
            </a:r>
            <a:endParaRPr b="0" lang="en-US" sz="6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85480" y="1785600"/>
            <a:ext cx="855324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Можно ли измерить математикой искусство и красоту?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Что общего между красотой природы и математикой?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Возможен ли мир без симметрии?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642960" y="1285560"/>
            <a:ext cx="785808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Математика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288000" indent="-28800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Природоведение, окружающий мир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288000" indent="-28800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Мировая художественная культура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115920" y="3706920"/>
            <a:ext cx="8862840" cy="1060200"/>
          </a:xfrm>
          <a:prstGeom prst="rect">
            <a:avLst/>
          </a:prstGeom>
          <a:ln w="0">
            <a:noFill/>
          </a:ln>
        </p:spPr>
      </p:pic>
      <p:sp>
        <p:nvSpPr>
          <p:cNvPr id="408" name="Содержимое 2"/>
          <p:cNvSpPr/>
          <p:nvPr/>
        </p:nvSpPr>
        <p:spPr>
          <a:xfrm>
            <a:off x="785880" y="4714920"/>
            <a:ext cx="6500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Учащиеся 10 или 11 классов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Показать учащимся неразрывную связь между основными законами математики, искусства и природы;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Позволить шире  взглянуть на окружающий мир;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Развивать любознательность; интеллектуальную сферу личности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14200" y="171468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Научиться пользоваться языком математики для описания предметов окружающего мира;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Научиться использовать знания и умения по математике в практической деятельности и повседневной жизни;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Понимать неразрывное сочетание науки и искусства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13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642600" y="2285640"/>
            <a:ext cx="78296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Презентация.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Буклет - информация и факты по теме исследования.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85840" y="200016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I этап. Знакомство с проектом, выбор темы исследования. Сбор информации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II этап. Защита презентаций и буклетов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III этап. Повторение пройденного материала 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IV этап. Защита работ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6760" y="1428840"/>
            <a:ext cx="5553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Математика – это царица всех наук. Искусство – это точное соблюдение законов математики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9" name="Picture 8" descr="i?id=16182679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1428840"/>
            <a:ext cx="2071440" cy="2071440"/>
          </a:xfrm>
          <a:prstGeom prst="rect">
            <a:avLst/>
          </a:prstGeom>
          <a:ln w="0">
            <a:noFill/>
          </a:ln>
        </p:spPr>
      </p:pic>
      <p:sp>
        <p:nvSpPr>
          <p:cNvPr id="420" name="Содержимое 2"/>
          <p:cNvSpPr/>
          <p:nvPr/>
        </p:nvSpPr>
        <p:spPr>
          <a:xfrm>
            <a:off x="357120" y="3929040"/>
            <a:ext cx="85010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Законы математики действуют даже в тех областях, где их менее всего ожидалось встретить: в живописи, музыке, скульптуре и просто в повседневной жизн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8:29:52Z</dcterms:created>
  <dc:creator>Ульянка</dc:creator>
  <dc:description/>
  <dc:language>en-US</dc:language>
  <cp:lastModifiedBy>Ульянка</cp:lastModifiedBy>
  <dcterms:modified xsi:type="dcterms:W3CDTF">2010-05-30T10:15:17Z</dcterms:modified>
  <cp:revision>30</cp:revision>
  <dc:subject/>
  <dc:title>Слайд 1</dc:title>
</cp:coreProperties>
</file>